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7553-7244-412A-8683-0D8B8C85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2D4-F4CB-4D46-B5C8-FDD5328536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E7A-4D3A-4AF2-BBCE-5B1E993CD8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0855-3151-4367-9709-FF0DC8BD27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396-C098-4FC8-8C57-17DBF5CC29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77A-A3B9-4F64-ADD9-B92E3DE628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1A52-7C0D-496C-A6E0-44281C8B3E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81B2-0BB1-43CF-A7BE-69A6191CCA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055A-C369-4DFE-98A6-74E9EE0699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DC9-0C7E-419A-8BE2-20E59BC68A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69A1-C71B-471C-BC21-F21A07DC8F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767E-C316-45D6-B222-D763E3EE27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2F7-1095-4EC0-B3D3-7A0226CF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38D-95CD-4DDD-A1DC-60830DF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A63-3580-45EE-9B72-BABB8F1A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EBE-3398-4D3B-AB61-FBF87882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5E38-37A4-46AA-B310-1BC60E3E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4C26-FB87-4FAE-A261-3430AFE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6165-E373-47D5-81F2-2659D4E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A051-5032-48B7-BE1B-8F2B577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E88D-A078-48C7-929D-0E1D260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A9C4-BB1F-40D8-BD14-2A87496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FF4E-A6A2-49C2-9A49-9A6B99D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EA9-554C-476A-AEF3-571533B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19C7-C9AA-41F9-9980-88C7D78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3DD9-3270-4FC1-B54B-A811538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AB81-7922-4ADD-9525-7A4236EF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64C-A914-41B1-B747-58B6F5F7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32D-B536-4EA0-8882-E0303DDA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22A-818C-4FE2-9C83-57451DB9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B3E-C1CD-484D-A8FA-B862E12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63E-3BDF-4F0B-80FB-7CC19A6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965-14FC-45D7-826C-77D1F6D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202-7D64-47C8-888A-05175B7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A78-954B-4992-9EB3-F6828C6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D3E-C4DC-4A9B-9E84-5D4CE41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D41-EFEA-4FA7-BCBC-127C3880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B30-5CA1-40C3-819B-EABC06750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apes and desig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Vinny Andol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n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decagons are seen in everyday life because there is a Susan b. Anthony coin that is 11 sides. A hendecagon is a 11 sided figure. The angle sum of a hendecagon is 1620 degrees. Also all the exterior angles of a hendecagon is 33 degrees. Finally this shape could not be tiled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971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ecagons are seen in everyday life because there is a coin I found that is 12 sided. A dodecagon is a 12 sided figure. The angle sum of a dodecagon is 1800 degrees. All the exterior angles of a dodecagon are 30 degrees. Also it would be hard to tile this sha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2286000" cy="2316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gle sum of a triangle is 180 degrees and it had three sides. Also all the exterior angles of a triangle are 60 degrees. There are 3 different type of triangles. The are equilateral triangles, isosceles triangles and finally there is scalene triangles. A equilateral triangle is a triangle with all the sides are the same. A scalene triangle is a triangle with no sides that are equal. Then there is a isosceles triangle and there are two sides that are equal and other is differ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sosceles         Equilateral   Scale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 flipH="1">
            <a:off x="3428640" y="57913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429000" y="670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5257800" y="6477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5257800" y="571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4114800" y="57913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5715000" y="57150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17"/>
          <p:cNvSpPr/>
          <p:nvPr/>
        </p:nvSpPr>
        <p:spPr>
          <a:xfrm flipH="1">
            <a:off x="1676160" y="5943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82880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676520" y="6553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quar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quare has 4 sides. Squares are also equilaterals so in that case that means that they have four sides. A squares angle sum is 360 degrees. Also all exterior angles of a square are 90 degrees. Plus a square has both types of symmetry (Rotation and Reflection). This shape can also be tiled very easily. Also this shape is seen in everyday life because some TVs are squ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943600" y="4267080"/>
            <a:ext cx="2743200" cy="2438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9480" y="4224240"/>
            <a:ext cx="32767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pentagon has five sides. The angle sum of a pentagon is 540 degrees. You could find a pentagon In Washington because the famous building is called the pentagon. A pentagon could not tile easily because it is over lapped and leaves spaces. All the exterior angle of a pentagon are 108 degre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90720" y="4038480"/>
            <a:ext cx="2743200" cy="228600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the-pentagon-000"/>
          <p:cNvPicPr/>
          <p:nvPr/>
        </p:nvPicPr>
        <p:blipFill>
          <a:blip r:embed="rId1"/>
          <a:stretch/>
        </p:blipFill>
        <p:spPr>
          <a:xfrm>
            <a:off x="5486400" y="3733920"/>
            <a:ext cx="2898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xagon are seen a lot in honey combs. If you cut a honey comb in half you can actually see the little hexagons. The angle sum of a hexagon is 720 degrees. A hexagon has 6 sides. The measure of all the exterior angles of a hexagon is 120 degrees. Also a hexagon is able to tile very eas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685800" y="4114800"/>
            <a:ext cx="3124080" cy="2514600"/>
          </a:xfrm>
          <a:prstGeom prst="hexagon">
            <a:avLst>
              <a:gd name="adj" fmla="val 31059"/>
              <a:gd name="vf" fmla="val 11547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Honeycomb400x400"/>
          <p:cNvPicPr/>
          <p:nvPr/>
        </p:nvPicPr>
        <p:blipFill>
          <a:blip r:embed="rId1"/>
          <a:stretch/>
        </p:blipFill>
        <p:spPr>
          <a:xfrm>
            <a:off x="5791320" y="3809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p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eptagon was found on one of the wegmans cakes. A heptagon is a 7 sided figure. The angle sum of a heptagon is 900.2 degrees. All the exterior angles of a heptagon are 128.6 degrees. This shape could not tile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heptagon"/>
          <p:cNvPicPr/>
          <p:nvPr/>
        </p:nvPicPr>
        <p:blipFill>
          <a:blip r:embed="rId1"/>
          <a:stretch/>
        </p:blipFill>
        <p:spPr>
          <a:xfrm>
            <a:off x="5486400" y="3962520"/>
            <a:ext cx="2666880" cy="263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Nd9GcSChGT1hPbInWpdtZgp65LrYYqv5NiODJIwF1elzInGwoeBCtTpEA&amp;t=1"/>
          <p:cNvPicPr/>
          <p:nvPr/>
        </p:nvPicPr>
        <p:blipFill>
          <a:blip r:embed="rId2"/>
          <a:stretch/>
        </p:blipFill>
        <p:spPr>
          <a:xfrm>
            <a:off x="533520" y="3505320"/>
            <a:ext cx="29718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c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agons are seen in every day life because stop sighs are octagons. A octagon is a 8 sided figure. The angle sum of a octagon is 1080 degrees. Also all the exterior angles of a octagon are 45 degrees. Also this shape could not tile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80044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n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agons are seen in everyday life because there are baby blanket that are 9 sided. A nonagon is a figure with 9 sides. The angle sum of a nonagon is 1260 degrees. Also all the exterior angles of a nonagon are 40 degrees. Also this shape could til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289872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349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cagons are seen in everyday life because there are some stoves tops that are in the shape of a decagon. A decagon is a figure that has 10 sides. The angle sum of a decagon is 1440 degrees. All the exterior angles of a decagon are 36 degrees. This shape could not tile easily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264312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44:10Z</dcterms:created>
  <dc:creator>Franklin Township School</dc:creator>
  <dc:description/>
  <dc:language>en-US</dc:language>
  <cp:lastModifiedBy>Owner</cp:lastModifiedBy>
  <dcterms:modified xsi:type="dcterms:W3CDTF">2011-05-13T15:22:28Z</dcterms:modified>
  <cp:revision>25</cp:revision>
  <dc:subject/>
  <dc:title>Shapes and designs</dc:title>
</cp:coreProperties>
</file>